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594-242F-44ED-95F5-19AED96D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C9E-31DD-4D65-BF31-1F5D1C0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89C-8A54-495B-9897-04EF992D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77F-D9E6-44AE-B02E-CA5DDD2F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16F-BC1A-4DAB-AA2E-09CD9AB0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E74-9D46-4EE5-8E77-9EC6D0F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BA3-21B0-4236-96AE-45ABFAB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A1A-525A-47D8-AAC4-AC0F3B6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831-B35A-4C79-8954-818C46EA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F2F-1068-422B-9920-E14FB31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ED0-B89E-4DA8-950A-96C9A6F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F8F-F8F6-45C0-B197-DF0D18D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B045-0F1C-4653-8046-0B83FA81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46:05Z</dcterms:created>
  <dc:creator>abeason</dc:creator>
  <dc:description/>
  <dc:language>en-US</dc:language>
  <cp:lastModifiedBy>abeason</cp:lastModifiedBy>
  <dcterms:modified xsi:type="dcterms:W3CDTF">2008-11-03T16:46:09Z</dcterms:modified>
  <cp:revision>1</cp:revision>
  <dc:subject/>
  <dc:title>Slide 1</dc:title>
</cp:coreProperties>
</file>